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2A2-59EC-4CF1-8DD5-CE6AF5F8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9DE-471A-4592-B146-2C4B3EFD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7E1-9465-4E35-AAF2-810C9F9C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C48-50BC-44E8-B4CF-06004011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911E-3CCF-437B-82B7-3038111E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5C04-0240-4963-B446-6301DE52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F336-2F3F-49D8-8268-C4E04079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1212-806A-42DE-BBD0-EE687738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99B1-8C73-4957-9112-D56EF347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1633-AFB6-43E0-BF0E-B415FAF4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0BD-0B56-47EC-82AB-CA826354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B78-A23B-4909-8DB2-D81F2BD3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9B4E-40D1-4275-AD93-7928B98F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E2F0-3C9A-417D-8818-E6D3128D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977-567B-4C5D-94B3-13FCB22D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1769-0480-407D-87DB-963C1E64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254E-4002-4794-9CC8-0438373C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E2D-51AC-4BDD-A42C-0B88A197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E52-E9C6-437A-9C4E-DD89DF57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259-57F6-42B8-9B3B-C682A89B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5FB-0A98-487C-9931-C1B8C3B1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F07-A545-442C-B025-9A89A22C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AB0-F767-450C-9D87-88BE85ED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7F3-824B-4E46-ACED-0A572B32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84D7-4F31-4EDA-9481-CCBECBE0C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49C1-A63F-47EE-A098-531E7038C5B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307&amp;noNav&amp;noMeta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Robertaylorhom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III.  The Other Side of American Lif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Unobtainable dreams”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D.  African Americans, Latinos, &amp; Native American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Affects towards these group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t jobs and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liv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A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to get hired, first to get f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 La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h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D.  African Americans, Latinos,  Native Americans, &amp; Appalachi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Native Americans:  poorest of them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income = &lt;$1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Termination policy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made them citiz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help government s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.  made it wo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Encouraged 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6464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D.  African Americans, Latinos,  Native Americans, &amp; Appalachi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Appalac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zation of coal mining increased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ts, medical care, and education worse than in inner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.  Juvenile Delinquenc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tisocial or criminal behavior of young peo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5% rise in crime between 1948 and 195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ssible caus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.V. and movies, divorce rates, racism, busy parents, lack of discipl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linquents” those who did not con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ducation and Sputni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 in math and sc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5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. Detent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41148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of détente – easing cold war 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loped by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ixon and Hen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issing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249880" y="1980720"/>
            <a:ext cx="3743280" cy="4116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308320" cy="349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2836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5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. Nixon goes to Chin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726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6112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tter relations between the count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uade Soviets with democ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280" indent="0">
              <a:spcBef>
                <a:spcPts val="901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11280" indent="0">
              <a:spcBef>
                <a:spcPts val="901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Photograph of President and Mrs. Richard Nixon Touring the Great Wall of Ch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600200"/>
            <a:ext cx="368604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46360" y="0"/>
            <a:ext cx="56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.  Poverty L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llar amount set by the government that reflects the minimum income required to support a fami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533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2009 Poverty Guidelines for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 Contiguous States and the District of Columb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66920" y="1447920"/>
            <a:ext cx="7777080" cy="4559040"/>
            <a:chOff x="1366920" y="1447920"/>
            <a:chExt cx="7777080" cy="4559040"/>
          </a:xfrm>
        </p:grpSpPr>
        <p:grpSp>
          <p:nvGrpSpPr>
            <p:cNvPr id="92" name=""/>
            <p:cNvGrpSpPr/>
            <p:nvPr/>
          </p:nvGrpSpPr>
          <p:grpSpPr>
            <a:xfrm>
              <a:off x="1370880" y="1451880"/>
              <a:ext cx="7769160" cy="4549680"/>
              <a:chOff x="1370880" y="1451880"/>
              <a:chExt cx="7769160" cy="45496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1370880" y="1451880"/>
                <a:ext cx="3864960" cy="421200"/>
                <a:chOff x="1370880" y="1451880"/>
                <a:chExt cx="3864960" cy="4212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70880" y="145188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ersons in famil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370880" y="145188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5235840" y="1451880"/>
                <a:ext cx="3903840" cy="421200"/>
                <a:chOff x="5235840" y="1451880"/>
                <a:chExt cx="3903840" cy="4212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35840" y="145188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overty guidelin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35840" y="145188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70880" y="1873080"/>
                <a:ext cx="3864960" cy="421200"/>
                <a:chOff x="1370880" y="1873080"/>
                <a:chExt cx="3864960" cy="4212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70880" y="187308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370880" y="187308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235840" y="1873080"/>
                <a:ext cx="3903840" cy="421200"/>
                <a:chOff x="5235840" y="1873080"/>
                <a:chExt cx="3903840" cy="4212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235840" y="187308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$10,8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235840" y="187308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370880" y="2294280"/>
                <a:ext cx="3864960" cy="421200"/>
                <a:chOff x="1370880" y="2294280"/>
                <a:chExt cx="3864960" cy="421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370880" y="229428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370880" y="229428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235840" y="2294280"/>
                <a:ext cx="3903840" cy="421200"/>
                <a:chOff x="5235840" y="2294280"/>
                <a:chExt cx="3903840" cy="4212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235840" y="229428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4,5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235840" y="229428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370880" y="2715840"/>
                <a:ext cx="3864960" cy="421200"/>
                <a:chOff x="1370880" y="2715840"/>
                <a:chExt cx="3864960" cy="4212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370880" y="271584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370880" y="271584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235840" y="2715840"/>
                <a:ext cx="3903840" cy="421200"/>
                <a:chOff x="5235840" y="2715840"/>
                <a:chExt cx="3903840" cy="4212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235840" y="271584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8,3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35840" y="271584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370880" y="3137040"/>
                <a:ext cx="3864960" cy="421200"/>
                <a:chOff x="1370880" y="3137040"/>
                <a:chExt cx="3864960" cy="4212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370880" y="313704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370880" y="313704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235840" y="3137040"/>
                <a:ext cx="3903840" cy="421200"/>
                <a:chOff x="5235840" y="3137040"/>
                <a:chExt cx="3903840" cy="421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235840" y="313704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2,0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235840" y="313704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370880" y="3558600"/>
                <a:ext cx="3864960" cy="421200"/>
                <a:chOff x="1370880" y="3558600"/>
                <a:chExt cx="3864960" cy="421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370880" y="355860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370880" y="355860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5235840" y="3558600"/>
                <a:ext cx="3903840" cy="421200"/>
                <a:chOff x="5235840" y="3558600"/>
                <a:chExt cx="3903840" cy="421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235840" y="355860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,79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235840" y="355860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370880" y="3979800"/>
                <a:ext cx="3864960" cy="421200"/>
                <a:chOff x="1370880" y="3979800"/>
                <a:chExt cx="3864960" cy="421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370880" y="397980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70880" y="397980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235840" y="3979800"/>
                <a:ext cx="3903840" cy="421200"/>
                <a:chOff x="5235840" y="3979800"/>
                <a:chExt cx="3903840" cy="421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235840" y="397980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9,5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35840" y="397980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370880" y="4401360"/>
                <a:ext cx="3864960" cy="421200"/>
                <a:chOff x="1370880" y="4401360"/>
                <a:chExt cx="3864960" cy="421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370880" y="440136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370880" y="440136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235840" y="4401360"/>
                <a:ext cx="3903840" cy="421200"/>
                <a:chOff x="5235840" y="4401360"/>
                <a:chExt cx="3903840" cy="421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235840" y="440136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3,2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235840" y="440136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370880" y="4822560"/>
                <a:ext cx="3864960" cy="421200"/>
                <a:chOff x="1370880" y="4822560"/>
                <a:chExt cx="3864960" cy="421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370880" y="482256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370880" y="482256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235840" y="4822560"/>
                <a:ext cx="3903840" cy="421200"/>
                <a:chOff x="5235840" y="4822560"/>
                <a:chExt cx="3903840" cy="4212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235840" y="482256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7,0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235840" y="482256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70880" y="5244120"/>
                <a:ext cx="7769160" cy="757440"/>
                <a:chOff x="1370880" y="5244120"/>
                <a:chExt cx="7769160" cy="757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370880" y="5244120"/>
                  <a:ext cx="7769160" cy="75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or families with more than 8 persons, add $3,740 for each additional person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70880" y="5244120"/>
                  <a:ext cx="7769160" cy="757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366920" y="1447920"/>
              <a:ext cx="7777080" cy="455904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4360" y="309600"/>
            <a:ext cx="8729640" cy="65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B.  The Other Americ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m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d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rto Ricans/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ral: Whites &amp; B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r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living the prosperity of middle-class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89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.  “White Flight”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Americans leaving the cities, along with their money, and moving to the suburb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 Renewal: tear down the old, build up the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Low income housing: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Made families move once they get a job = makes it difficult to save and get a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33720" y="1442880"/>
            <a:ext cx="6172200" cy="5208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throp Hom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File:Robertaylorhom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71680"/>
            <a:ext cx="731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3-16T15:14:38Z</dcterms:modified>
  <cp:revision>6</cp:revision>
  <dc:subject/>
  <dc:title>PowerPoint Presentation</dc:title>
</cp:coreProperties>
</file>